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BAD1B-4EBD-4BAE-AE41-6F78B5317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389E4-0511-42B7-92FF-E457A496C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6BC72-E2E7-4F1B-9A18-B0E1F326D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A1BDE-8337-49BA-9707-74377DEDD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FB3CE-334D-4EE5-8778-851356C7A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D1BAB-CD01-4C72-AA94-CEC63096F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449EC-B399-4DAD-821E-D85D23D54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C1C6C-1364-42EF-B177-D2C369318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FC015-86F9-4A14-8857-7D9C4206F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B10FA-CA91-4B1B-BD6E-D25C21EC8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E56C0-50CE-430D-8C24-903C93680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11544-0940-4036-A992-E802F7D32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CC78-5C60-4D8A-B64F-E83EA33E501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我怎样做好专业选优评估准备</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98989"/>
                </a:solidFill>
                <a:latin typeface="Calibri"/>
              </a:rPr>
              <a:t>上海对外经贸大学</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98989"/>
                </a:solidFill>
                <a:latin typeface="Calibri"/>
              </a:rPr>
              <a:t>国际经贸学院国际经贸专业主任</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98989"/>
                </a:solidFill>
                <a:latin typeface="Calibri"/>
              </a:rPr>
              <a:t>张永安 教授</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第</a:t>
            </a:r>
            <a:r>
              <a:rPr b="0" lang="en-US" sz="4400" spc="-1" strike="noStrike">
                <a:solidFill>
                  <a:srgbClr val="000000"/>
                </a:solidFill>
                <a:latin typeface="Calibri"/>
              </a:rPr>
              <a:t>5</a:t>
            </a:r>
            <a:r>
              <a:rPr b="0" lang="zh-CN" sz="4400" spc="-1" strike="noStrike">
                <a:solidFill>
                  <a:srgbClr val="000000"/>
                </a:solidFill>
                <a:latin typeface="Calibri"/>
              </a:rPr>
              <a:t>个一级指标涉及管理</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主要是相关制度是否完善，教师要知晓。因此，准备好相关的管理文件汇编是有效的应对措施。</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其次是学生服务。包括学习指导、就业创业指导、主要是为学生就业提供服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建立教学质量的监控制度，并且建立教学质量报告制度，以便能够不断提高教学质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第</a:t>
            </a:r>
            <a:r>
              <a:rPr b="0" lang="en-US" sz="4400" spc="-1" strike="noStrike">
                <a:solidFill>
                  <a:srgbClr val="000000"/>
                </a:solidFill>
                <a:latin typeface="Calibri"/>
              </a:rPr>
              <a:t>6</a:t>
            </a:r>
            <a:r>
              <a:rPr b="0" lang="zh-CN" sz="4400" spc="-1" strike="noStrike">
                <a:solidFill>
                  <a:srgbClr val="000000"/>
                </a:solidFill>
                <a:latin typeface="Calibri"/>
              </a:rPr>
              <a:t>个一级指标涉及教学效果</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我们所有的教学活动，都要考虑效果。</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从学风、遵纪守法、课内课外活动、毕业等情况表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最后都要体现在学生的成才上。</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学生成才的表现是多方面的。表现在成绩、社会评价。因此要注意收集反映。</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力争用数据说话</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Calibri"/>
              </a:rPr>
              <a:t>数据是很好的表述依据。客观上不少指标也需要用数据来表达。因此，趁此机会建立一个数据库倒是一个不错的选择。</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Calibri"/>
              </a:rPr>
              <a:t>我不是说，实行数据的堆砌，而是必须有数字的支撑。如果这些数字能够有关职能部门统一制定规则进行准备，显然更容易操作。</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需要归纳出自己的特色</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Calibri"/>
              </a:rPr>
              <a:t>在评估中，专家很注重受评估专业有何特色。例如，我说我们国贸专业具有这些特色（</a:t>
            </a:r>
            <a:r>
              <a:rPr b="0" lang="en-US" sz="3000" spc="-1" strike="noStrike">
                <a:solidFill>
                  <a:srgbClr val="000000"/>
                </a:solidFill>
                <a:latin typeface="Calibri"/>
              </a:rPr>
              <a:t>1</a:t>
            </a:r>
            <a:r>
              <a:rPr b="0" lang="zh-CN" sz="3000" spc="-1" strike="noStrike">
                <a:solidFill>
                  <a:srgbClr val="000000"/>
                </a:solidFill>
                <a:latin typeface="Calibri"/>
              </a:rPr>
              <a:t>）更多地强调为赋予学生就业竞争能力提供基础；（</a:t>
            </a:r>
            <a:r>
              <a:rPr b="0" lang="en-US" sz="3000" spc="-1" strike="noStrike">
                <a:solidFill>
                  <a:srgbClr val="000000"/>
                </a:solidFill>
                <a:latin typeface="Calibri"/>
              </a:rPr>
              <a:t>2</a:t>
            </a:r>
            <a:r>
              <a:rPr b="0" lang="zh-CN" sz="3000" spc="-1" strike="noStrike">
                <a:solidFill>
                  <a:srgbClr val="000000"/>
                </a:solidFill>
                <a:latin typeface="Calibri"/>
              </a:rPr>
              <a:t>）关注实际解决问题方面能力的训练；（</a:t>
            </a:r>
            <a:r>
              <a:rPr b="0" lang="en-US" sz="3000" spc="-1" strike="noStrike">
                <a:solidFill>
                  <a:srgbClr val="000000"/>
                </a:solidFill>
                <a:latin typeface="Calibri"/>
              </a:rPr>
              <a:t>3</a:t>
            </a:r>
            <a:r>
              <a:rPr b="0" lang="zh-CN" sz="3000" spc="-1" strike="noStrike">
                <a:solidFill>
                  <a:srgbClr val="000000"/>
                </a:solidFill>
                <a:latin typeface="Calibri"/>
              </a:rPr>
              <a:t>）着重训练学生良好的英语应用能力。</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Calibri"/>
              </a:rPr>
              <a:t>全国有</a:t>
            </a:r>
            <a:r>
              <a:rPr b="0" lang="en-US" sz="3000" spc="-1" strike="noStrike">
                <a:solidFill>
                  <a:srgbClr val="000000"/>
                </a:solidFill>
                <a:latin typeface="Calibri"/>
              </a:rPr>
              <a:t>800</a:t>
            </a:r>
            <a:r>
              <a:rPr b="0" lang="zh-CN" sz="3000" spc="-1" strike="noStrike">
                <a:solidFill>
                  <a:srgbClr val="000000"/>
                </a:solidFill>
                <a:latin typeface="Calibri"/>
              </a:rPr>
              <a:t>多院校举办国际经济与贸易专业，有</a:t>
            </a:r>
            <a:r>
              <a:rPr b="0" lang="en-US" sz="3000" spc="-1" strike="noStrike">
                <a:solidFill>
                  <a:srgbClr val="000000"/>
                </a:solidFill>
                <a:latin typeface="Calibri"/>
              </a:rPr>
              <a:t>985</a:t>
            </a:r>
            <a:r>
              <a:rPr b="0" lang="zh-CN" sz="3000" spc="-1" strike="noStrike">
                <a:solidFill>
                  <a:srgbClr val="000000"/>
                </a:solidFill>
                <a:latin typeface="Calibri"/>
              </a:rPr>
              <a:t>、</a:t>
            </a:r>
            <a:r>
              <a:rPr b="0" lang="en-US" sz="3000" spc="-1" strike="noStrike">
                <a:solidFill>
                  <a:srgbClr val="000000"/>
                </a:solidFill>
                <a:latin typeface="Calibri"/>
              </a:rPr>
              <a:t>211</a:t>
            </a:r>
            <a:r>
              <a:rPr b="0" lang="zh-CN" sz="3000" spc="-1" strike="noStrike">
                <a:solidFill>
                  <a:srgbClr val="000000"/>
                </a:solidFill>
                <a:latin typeface="Calibri"/>
              </a:rPr>
              <a:t>，有老本科新本科，还有高职高专。</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Calibri"/>
              </a:rPr>
              <a:t>我们不同</a:t>
            </a:r>
            <a:r>
              <a:rPr b="0" lang="en-US" sz="3000" spc="-1" strike="noStrike">
                <a:solidFill>
                  <a:srgbClr val="000000"/>
                </a:solidFill>
                <a:latin typeface="Calibri"/>
              </a:rPr>
              <a:t>985</a:t>
            </a:r>
            <a:r>
              <a:rPr b="0" lang="zh-CN" sz="3000" spc="-1" strike="noStrike">
                <a:solidFill>
                  <a:srgbClr val="000000"/>
                </a:solidFill>
                <a:latin typeface="Calibri"/>
              </a:rPr>
              <a:t>、</a:t>
            </a:r>
            <a:r>
              <a:rPr b="0" lang="en-US" sz="3000" spc="-1" strike="noStrike">
                <a:solidFill>
                  <a:srgbClr val="000000"/>
                </a:solidFill>
                <a:latin typeface="Calibri"/>
              </a:rPr>
              <a:t>211</a:t>
            </a:r>
            <a:r>
              <a:rPr b="0" lang="zh-CN" sz="3000" spc="-1" strike="noStrike">
                <a:solidFill>
                  <a:srgbClr val="000000"/>
                </a:solidFill>
                <a:latin typeface="Calibri"/>
              </a:rPr>
              <a:t>争理论训练的水平，我们也不是单纯训练学生做操作，而是强调有较好理论修养指导下的实际能力训练。</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要对成绩作出中肯的评论</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我们强调专业建设中获得的成绩，目的不仅仅是展示，而是在展示的基础上，发现还存在什么需要改进的。目的是为了能够不断地，哪怕是小幅度地渐进式地提高教学质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展示成绩也是为了鼓舞士气，包括自我激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但是必须清醒地看到自己的不足。</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专业建设是一个长期的工作</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专业建设反映了教学水平和教学质量。我们经常讲“本科教学是立校之本”，专业建设就是这个本中之本。</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专业建设不是一蹴而就的，需要长期的工作、需要大量的投入。但是对于教师而言，这种投入往往不能得到应有的补偿。因此必须想方设法鼓励教师参加到这些活动中去。如果在制度设计上能够有所改变可能效果更佳。</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要通过制度设计鼓励</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专业建设的成就如何，反映了教学质量的高低。我以为，已经到了应当予以高度重视的阶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鼓励教师将更多的精力放入教育教学上、鼓励教师更多的承担教改任务。例如允许每一名教师将所参加的教改项目当作工作业绩申报。等等。</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致力于不断提高教学质量</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参加专业评估，目的是为了总结经验，不断提高教学质量。我以为从大的方面说，是学校面对竞争所需要的；从小的方面说，是一个教师的职责所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选优评估使专业建设有了一个交流平台</a:t>
            </a:r>
            <a:endParaRPr b="0" lang="en-US" sz="36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选优评估使我们教师在长期的专业建设所作出的努力，有了一个更为直接的评价机制。</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使我们有机会梳理多年来在专业建设方面的心得体会。</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当然，我们教师也因此成为压力的直接承受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摆在面前的首先是一份指标</a:t>
            </a:r>
            <a:endParaRPr b="0" lang="en-US" sz="4400" spc="-1" strike="noStrike">
              <a:solidFill>
                <a:srgbClr val="000000"/>
              </a:solidFill>
              <a:latin typeface="Calibri"/>
            </a:endParaRPr>
          </a:p>
        </p:txBody>
      </p:sp>
      <p:sp>
        <p:nvSpPr>
          <p:cNvPr id="46" name=""/>
          <p:cNvSpPr txBox="1"/>
          <p:nvPr/>
        </p:nvSpPr>
        <p:spPr>
          <a:xfrm>
            <a:off x="457200" y="1341000"/>
            <a:ext cx="8229600" cy="478476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a:t>
            </a:r>
            <a:r>
              <a:rPr b="0" lang="zh-CN" sz="3200" spc="-1" strike="noStrike">
                <a:solidFill>
                  <a:srgbClr val="000000"/>
                </a:solidFill>
                <a:latin typeface="Calibri"/>
              </a:rPr>
              <a:t>个一级指标；</a:t>
            </a:r>
            <a:r>
              <a:rPr b="0" lang="en-US" sz="3200" spc="-1" strike="noStrike">
                <a:solidFill>
                  <a:srgbClr val="000000"/>
                </a:solidFill>
                <a:latin typeface="Calibri"/>
              </a:rPr>
              <a:t>20</a:t>
            </a:r>
            <a:r>
              <a:rPr b="0" lang="zh-CN" sz="3200" spc="-1" strike="noStrike">
                <a:solidFill>
                  <a:srgbClr val="000000"/>
                </a:solidFill>
                <a:latin typeface="Calibri"/>
              </a:rPr>
              <a:t>个二级指标；每个指标下又有若干三级指标。这些指标，有些是系里能够把握的，有些则需要由在学院和学校的指导下完成。比如，图书资料的统计、教学经费的统计。</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我们需要熟悉这个指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按照指标体系完成自评报告</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自评报告是评审专家很关注的一份文件。也是我们对自身专业建设的总结。要予以高度重视。</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自评报告的撰写，应当按照指标体系完成，但也不要唯指标体系为唯一。</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我的感想是，重点突出，强项突出，要有成绩有设想，要摆出问题，摆出相应措施。</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清晰描述专业定位</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a:t>
            </a:r>
            <a:r>
              <a:rPr b="0" lang="en-US" sz="3200" spc="-1" strike="noStrike">
                <a:solidFill>
                  <a:srgbClr val="000000"/>
                </a:solidFill>
                <a:latin typeface="Calibri"/>
              </a:rPr>
              <a:t>1</a:t>
            </a:r>
            <a:r>
              <a:rPr b="0" lang="zh-CN" sz="3200" spc="-1" strike="noStrike">
                <a:solidFill>
                  <a:srgbClr val="000000"/>
                </a:solidFill>
                <a:latin typeface="Calibri"/>
              </a:rPr>
              <a:t>个一级指标考察专业定位。因此，要用清晰的文字阐述制定培养目标的依据和实现培养目标的路径和措施。</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要注意同后面的其他描述相互呼应。</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通常要在这里要提供不同年度的培养方案，如果最近几年里有变化的，最好能够陈述修改的理由，以将对教学的重视表达出来。</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当然毫无疑问地要备好佐证材料。</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第</a:t>
            </a:r>
            <a:r>
              <a:rPr b="0" lang="en-US" sz="4400" spc="-1" strike="noStrike">
                <a:solidFill>
                  <a:srgbClr val="000000"/>
                </a:solidFill>
                <a:latin typeface="Calibri"/>
              </a:rPr>
              <a:t>2</a:t>
            </a:r>
            <a:r>
              <a:rPr b="0" lang="zh-CN" sz="4400" spc="-1" strike="noStrike">
                <a:solidFill>
                  <a:srgbClr val="000000"/>
                </a:solidFill>
                <a:latin typeface="Calibri"/>
              </a:rPr>
              <a:t>个一级指标涉及到教师队伍</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Calibri"/>
              </a:rPr>
              <a:t>这组指标有</a:t>
            </a:r>
            <a:r>
              <a:rPr b="0" lang="en-US" sz="3000" spc="-1" strike="noStrike">
                <a:solidFill>
                  <a:srgbClr val="000000"/>
                </a:solidFill>
                <a:latin typeface="Calibri"/>
              </a:rPr>
              <a:t>18</a:t>
            </a:r>
            <a:r>
              <a:rPr b="0" lang="zh-CN" sz="3000" spc="-1" strike="noStrike">
                <a:solidFill>
                  <a:srgbClr val="000000"/>
                </a:solidFill>
                <a:latin typeface="Calibri"/>
              </a:rPr>
              <a:t>分。需要将我们教师队伍的风采展示出来。一是在科研、教改等方面的成绩。二是年龄、学历、职称等的合理结构。</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Calibri"/>
              </a:rPr>
              <a:t>作为一个以培养理论指导下的高素质应用型人才为己任的国贸专业，我们在提供教师基本信息的基础上，还注重表现教师在科研、教改方面的投入、表达我们所建立的专业建设顾问机构的活动。</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Calibri"/>
              </a:rPr>
              <a:t>一句话，是体现我们所建立的一支活跃在科研、教学第一线的有活力的师资队伍。</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第</a:t>
            </a:r>
            <a:r>
              <a:rPr b="0" lang="en-US" sz="3600" spc="-1" strike="noStrike">
                <a:solidFill>
                  <a:srgbClr val="000000"/>
                </a:solidFill>
                <a:latin typeface="Calibri"/>
              </a:rPr>
              <a:t>3</a:t>
            </a:r>
            <a:r>
              <a:rPr b="0" lang="zh-CN" sz="3600" spc="-1" strike="noStrike">
                <a:solidFill>
                  <a:srgbClr val="000000"/>
                </a:solidFill>
                <a:latin typeface="Calibri"/>
              </a:rPr>
              <a:t>个一级指标涉及教学资源及利用</a:t>
            </a:r>
            <a:endParaRPr b="0" lang="en-US" sz="36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包括拨款、学费收入、支出。</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是否有实训平台。包括实验室、校内外实习实训平台。是否有网络教学平台，如果有的话，要提供链接方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专业图书资料的数量和学生的借阅情况。</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一般而言，这个指标通常没有什么问题，只要数据翔实。因此要同有关部门协调好，尽早做好统计工作，例如专业参考书的借阅人次数，等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第</a:t>
            </a:r>
            <a:r>
              <a:rPr b="0" lang="en-US" sz="4400" spc="-1" strike="noStrike">
                <a:solidFill>
                  <a:srgbClr val="000000"/>
                </a:solidFill>
                <a:latin typeface="Calibri"/>
              </a:rPr>
              <a:t>4</a:t>
            </a:r>
            <a:r>
              <a:rPr b="0" lang="zh-CN" sz="4400" spc="-1" strike="noStrike">
                <a:solidFill>
                  <a:srgbClr val="000000"/>
                </a:solidFill>
                <a:latin typeface="Calibri"/>
              </a:rPr>
              <a:t>个一级指标很重要</a:t>
            </a:r>
            <a:endParaRPr b="0" lang="en-US" sz="4400" spc="-1" strike="noStrike">
              <a:solidFill>
                <a:srgbClr val="000000"/>
              </a:solidFill>
              <a:latin typeface="Calibri"/>
            </a:endParaRPr>
          </a:p>
        </p:txBody>
      </p:sp>
      <p:sp>
        <p:nvSpPr>
          <p:cNvPr id="56" name=""/>
          <p:cNvSpPr txBox="1"/>
          <p:nvPr/>
        </p:nvSpPr>
        <p:spPr>
          <a:xfrm>
            <a:off x="457200" y="1125360"/>
            <a:ext cx="8229600" cy="5328000"/>
          </a:xfrm>
          <a:prstGeom prst="rect">
            <a:avLst/>
          </a:prstGeom>
          <a:noFill/>
          <a:ln w="0">
            <a:noFill/>
          </a:ln>
        </p:spPr>
        <p:txBody>
          <a:bodyPr anchor="t">
            <a:normAutofit/>
          </a:bodyPr>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涉及教育教学。是评估的核心指标。其中每一个二级指标及其下属的三级指标必须予以高度重视，做好归纳、总结，让评审专家心悦诚服。</a:t>
            </a:r>
            <a:endParaRPr b="0" lang="en-US" sz="2000" spc="-1" strike="noStrike">
              <a:solidFill>
                <a:srgbClr val="000000"/>
              </a:solidFill>
              <a:latin typeface="Calibri"/>
            </a:endParaRPr>
          </a:p>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一是课程教学情况反映。包括大纲、教材和考核。每门课程的教学文件要齐全，以反映教学及其管理的规范性。教材要优先进性，考核要体现公平和教学效果。</a:t>
            </a:r>
            <a:endParaRPr b="0" lang="en-US" sz="2000" spc="-1" strike="noStrike">
              <a:solidFill>
                <a:srgbClr val="000000"/>
              </a:solidFill>
              <a:latin typeface="Calibri"/>
            </a:endParaRPr>
          </a:p>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二是实践教学。我的体会是要有体现本校特点的实践类课程。例如大家都知道上海对外经贸大学的强项是对外贸易。因此，我们就在学生的课内课外进行实践课的设计。课内设计实验课，课外设计实践课</a:t>
            </a:r>
            <a:r>
              <a:rPr b="0" lang="en-US" sz="2000" spc="-1" strike="noStrike">
                <a:solidFill>
                  <a:srgbClr val="000000"/>
                </a:solidFill>
                <a:latin typeface="Times New Roman"/>
                <a:ea typeface="Times New Roman"/>
              </a:rPr>
              <a:t>——</a:t>
            </a:r>
            <a:r>
              <a:rPr b="0" lang="zh-CN" sz="2000" spc="-1" strike="noStrike">
                <a:solidFill>
                  <a:srgbClr val="000000"/>
                </a:solidFill>
                <a:latin typeface="Calibri"/>
              </a:rPr>
              <a:t>国际贸易模拟比赛（商战）、国际贸易征文大赛、参加国际贸易商品布展竞赛、指导学生参加学生自主的服务社团。</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92280"/>
            <a:ext cx="8229600" cy="5433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三是教学改革。教学改革是推动专业建设的重要动力，在自评报告中可以考虑着力予以介绍。要有很大比例的教师参加教改，并且要有本专业教师领衔的教改课题。</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四是毕业设计或论文。主要还是要保证毕业论文的质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4T22:30:13Z</dcterms:created>
  <dc:creator>yfm</dc:creator>
  <dc:description/>
  <dc:language>en-US</dc:language>
  <cp:lastModifiedBy>yfm</cp:lastModifiedBy>
  <dcterms:modified xsi:type="dcterms:W3CDTF">2013-11-29T02:46:13Z</dcterms:modified>
  <cp:revision>90</cp:revision>
  <dc:subject/>
  <dc:title>我怎样做好专业选优评估准备</dc:title>
</cp:coreProperties>
</file>