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6990-8370-440A-B2F0-4EC5726D86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0" name="灯片编号占位符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0A15-20D4-491B-A996-00D380DE4E2F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3" name="灯片编号占位符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A911-E1BD-434D-AB86-728342818E2C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6" name="灯片编号占位符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D8FE-9137-4E7D-B9F8-17D5954950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250D-1B60-4CD7-BBA8-48C5726D0219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392D-722F-4FC7-B964-FA8F962E379B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F28B-3EE2-47B5-AFF3-14DDACD8B6EE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54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6A3C-CBBD-495F-B332-E48E3EE4B3F1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4B83-5D1B-46FD-A01B-C49F8C08E538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58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BC37-E7FA-4343-828A-FA9007BE9385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E854-F945-42EF-8C6A-3D0FF765371C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62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F1E6-F468-45F9-AA34-FB4ED5FC6B8A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67CF-7EFA-4D5C-849B-A6B8BBA01892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66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867A-1C90-4403-93C4-7F4EBFAC28FC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4D46-E1FA-48BD-9436-042F47B91778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0328-466C-40AE-8B49-C962C2EAC175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6B06-D558-4CD7-BFB4-49C5BAB71F26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01FA-F9EC-4C7E-98F9-90CCAD2BDB62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A30B-7B0C-446E-A456-86873B52FAB4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2B4C-2771-465E-BCE6-8C81ED0E4044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C5DF-2868-40FA-8333-7E60352DB8DF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FCF1-6DD6-47D6-8B1C-16A1CFD0F70D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953D-F272-4D4F-AB31-517685AE1EAD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D283-4DFB-4583-90AF-7EA59AB941B3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63C2-763C-48B4-80E7-46274B6E92B1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B51E-AAC1-42AE-B3D5-0ABA1640F576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FCE4-FF27-4928-A171-600EB4806882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E196-70E1-4D54-B670-7FA5C8FEE804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3C0C-4892-4A14-917C-8B7283593746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5CC-117C-4018-93A8-ACFF7E3F640D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3FE8-E459-4958-BF06-5B05DF4B4748}" type="slidenum">
              <a:rPr b="0" lang="en-US" sz="12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7" name="灯片编号占位符 3"/>
          <p:cNvSpPr/>
          <p:nvPr/>
        </p:nvSpPr>
        <p:spPr>
          <a:xfrm>
            <a:off x="5178600" y="6513480"/>
            <a:ext cx="396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CF40-3A0A-4703-AFE3-D8C658083D9E}" type="slidenum">
              <a:rPr b="0" lang="zh-CN" sz="1200" spc="-1" strike="noStrike">
                <a:solidFill>
                  <a:srgbClr val="163794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7A8-8E2F-4DBF-9E82-DD27B908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F28-B9FA-4A37-91DF-F7B82CCE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4C8-0D7C-4D19-AA8C-6F45CC3B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473-68D1-4E68-A08C-C1AD790E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B67-7467-42C0-9216-A072EA03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51B-5DA0-4C72-964B-23874FBA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FA7-7E44-419C-9E26-59FDA5CA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4D6-1DA7-4548-A28A-51F1AB7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235-C60C-4BA4-8BC4-E7C78869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7C0-C559-49B5-B334-0110A97F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3BE-0C38-4145-B911-99ED6765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2DC-F5ED-45A7-A20C-2C464258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" name="Rectangle 12"/>
          <p:cNvSpPr/>
          <p:nvPr/>
        </p:nvSpPr>
        <p:spPr>
          <a:xfrm>
            <a:off x="15840" y="655308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6A86-1D72-46A7-97E0-7471E8E43D63}" type="slidenum"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pic>
        <p:nvPicPr>
          <p:cNvPr id="3" name="Picture 14" descr="sjtulogo1"/>
          <p:cNvPicPr/>
          <p:nvPr/>
        </p:nvPicPr>
        <p:blipFill>
          <a:blip r:embed="rId2"/>
          <a:stretch/>
        </p:blipFill>
        <p:spPr>
          <a:xfrm>
            <a:off x="0" y="1764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Text Box 4"/>
          <p:cNvSpPr/>
          <p:nvPr/>
        </p:nvSpPr>
        <p:spPr>
          <a:xfrm>
            <a:off x="0" y="804960"/>
            <a:ext cx="9144000" cy="215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856720" y="6561000"/>
            <a:ext cx="287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pic>
        <p:nvPicPr>
          <p:cNvPr id="42" name="Picture 14" descr="sjtulogo1"/>
          <p:cNvPicPr/>
          <p:nvPr/>
        </p:nvPicPr>
        <p:blipFill>
          <a:blip r:embed="rId2"/>
          <a:stretch/>
        </p:blipFill>
        <p:spPr>
          <a:xfrm>
            <a:off x="0" y="1764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8856720" y="6561000"/>
            <a:ext cx="287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pic>
        <p:nvPicPr>
          <p:cNvPr id="80" name="Picture 14" descr="sjtulogo1"/>
          <p:cNvPicPr/>
          <p:nvPr/>
        </p:nvPicPr>
        <p:blipFill>
          <a:blip r:embed="rId2"/>
          <a:stretch/>
        </p:blipFill>
        <p:spPr>
          <a:xfrm>
            <a:off x="0" y="1764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4" descr="sjtulogo1"/>
          <p:cNvPicPr/>
          <p:nvPr/>
        </p:nvPicPr>
        <p:blipFill>
          <a:blip r:embed="rId2"/>
          <a:stretch/>
        </p:blipFill>
        <p:spPr>
          <a:xfrm>
            <a:off x="0" y="1764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2"/>
          <p:cNvSpPr/>
          <p:nvPr/>
        </p:nvSpPr>
        <p:spPr>
          <a:xfrm>
            <a:off x="15840" y="655308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A06B-C8DD-41CB-85A8-4F258AB4FEAD}" type="slidenum"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pic>
        <p:nvPicPr>
          <p:cNvPr id="157" name="Picture 14" descr="sjtulogo1"/>
          <p:cNvPicPr/>
          <p:nvPr/>
        </p:nvPicPr>
        <p:blipFill>
          <a:blip r:embed="rId2"/>
          <a:stretch/>
        </p:blipFill>
        <p:spPr>
          <a:xfrm>
            <a:off x="0" y="1764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0" y="804960"/>
            <a:ext cx="9144000" cy="215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12E2-8DA6-4180-92D8-23C60DCE6B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4" descr="sjtulogo1"/>
          <p:cNvPicPr/>
          <p:nvPr/>
        </p:nvPicPr>
        <p:blipFill>
          <a:blip r:embed="rId2"/>
          <a:stretch/>
        </p:blipFill>
        <p:spPr>
          <a:xfrm>
            <a:off x="0" y="1764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楷体_GB2312"/>
              </a:rPr>
              <a:t>Click to edit the outline text format</a:t>
            </a:r>
            <a:endParaRPr b="1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楷体_GB2312"/>
              </a:rPr>
              <a:t>Second Outline Level</a:t>
            </a:r>
            <a:endParaRPr b="1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794"/>
                </a:solidFill>
                <a:latin typeface="楷体_GB2312"/>
              </a:rPr>
              <a:t>Third Outline Level</a:t>
            </a:r>
            <a:endParaRPr b="1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3" marL="1600200" indent="-228600">
              <a:spcBef>
                <a:spcPts val="499"/>
              </a:spcBef>
              <a:buClr>
                <a:srgbClr val="163794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楷体_GB2312"/>
              </a:rPr>
              <a:t>Fourth Outline Level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4" marL="2057400" indent="-228600">
              <a:spcBef>
                <a:spcPts val="499"/>
              </a:spcBef>
              <a:buClr>
                <a:srgbClr val="1637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4" descr="sjtulogo1"/>
          <p:cNvPicPr/>
          <p:nvPr/>
        </p:nvPicPr>
        <p:blipFill>
          <a:blip r:embed="rId2"/>
          <a:stretch/>
        </p:blipFill>
        <p:spPr>
          <a:xfrm>
            <a:off x="0" y="1764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4" descr="sjtulogo1"/>
          <p:cNvPicPr/>
          <p:nvPr/>
        </p:nvPicPr>
        <p:blipFill>
          <a:blip r:embed="rId2"/>
          <a:stretch/>
        </p:blipFill>
        <p:spPr>
          <a:xfrm>
            <a:off x="0" y="1764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3" descr="蓝色系校徽标准版.png"/>
          <p:cNvPicPr/>
          <p:nvPr/>
        </p:nvPicPr>
        <p:blipFill>
          <a:blip r:embed="rId2"/>
          <a:stretch/>
        </p:blipFill>
        <p:spPr>
          <a:xfrm>
            <a:off x="2139840" y="1279440"/>
            <a:ext cx="4864320" cy="48722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4"/>
          <p:cNvSpPr/>
          <p:nvPr/>
        </p:nvSpPr>
        <p:spPr>
          <a:xfrm>
            <a:off x="8640720" y="6453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4EF6-4014-4396-B34E-1082A5F7F55C}" type="slidenum">
              <a:rPr b="1" i="1" lang="zh-CN" sz="2000" spc="-1" strike="noStrike">
                <a:solidFill>
                  <a:srgbClr val="606060"/>
                </a:solidFill>
                <a:latin typeface="Arial"/>
                <a:ea typeface="GungsuhChe"/>
              </a:rPr>
              <a:t>&lt;number&gt;</a:t>
            </a:fld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pic>
        <p:nvPicPr>
          <p:cNvPr id="314" name="Picture 14" descr="sjtulogo1"/>
          <p:cNvPicPr/>
          <p:nvPr/>
        </p:nvPicPr>
        <p:blipFill>
          <a:blip r:embed="rId3"/>
          <a:stretch/>
        </p:blipFill>
        <p:spPr>
          <a:xfrm>
            <a:off x="0" y="1764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6040" y="1287360"/>
            <a:ext cx="7935840" cy="113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上海高校本科专业评估</a:t>
            </a:r>
            <a:endParaRPr b="1" lang="en-US" sz="4400" spc="-1" strike="noStrike">
              <a:solidFill>
                <a:srgbClr val="a50021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704520" y="3909600"/>
            <a:ext cx="80946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陈关龙</a:t>
            </a:r>
            <a:endParaRPr b="1" lang="en-US" sz="2800" spc="-1" strike="noStrike">
              <a:solidFill>
                <a:srgbClr val="133984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2013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29</a:t>
            </a: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日</a:t>
            </a:r>
            <a:endParaRPr b="1" lang="en-US" sz="2800" spc="-1" strike="noStrike">
              <a:solidFill>
                <a:srgbClr val="133984"/>
              </a:solidFill>
              <a:latin typeface="Calibri"/>
            </a:endParaRPr>
          </a:p>
        </p:txBody>
      </p:sp>
      <p:grpSp>
        <p:nvGrpSpPr>
          <p:cNvPr id="360" name="圆角矩形 2"/>
          <p:cNvGrpSpPr/>
          <p:nvPr/>
        </p:nvGrpSpPr>
        <p:grpSpPr>
          <a:xfrm>
            <a:off x="701640" y="3309840"/>
            <a:ext cx="7905960" cy="122400"/>
            <a:chOff x="701640" y="3309840"/>
            <a:chExt cx="7905960" cy="122400"/>
          </a:xfrm>
        </p:grpSpPr>
        <p:pic>
          <p:nvPicPr>
            <p:cNvPr id="361" name="圆角矩形 2" descr=""/>
            <p:cNvPicPr/>
            <p:nvPr/>
          </p:nvPicPr>
          <p:blipFill>
            <a:blip r:embed="rId1"/>
            <a:stretch/>
          </p:blipFill>
          <p:spPr>
            <a:xfrm>
              <a:off x="701640" y="3309840"/>
              <a:ext cx="7905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720720" y="3335400"/>
              <a:ext cx="786276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52560" y="136440"/>
            <a:ext cx="746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92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微软雅黑"/>
              </a:rPr>
              <a:t>上海市专业评估背景</a:t>
            </a:r>
            <a:endParaRPr b="1" lang="en-US" sz="36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409" name="矩形 8"/>
          <p:cNvSpPr/>
          <p:nvPr/>
        </p:nvSpPr>
        <p:spPr>
          <a:xfrm>
            <a:off x="835200" y="1962000"/>
            <a:ext cx="757368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专业内涵建设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规范办学行为，形成自我约束、自我完善、自我发展机制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专业质量监控体系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本科教学水平和人才培养质量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711360" y="1209600"/>
            <a:ext cx="54752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指导思想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52560" y="136440"/>
            <a:ext cx="746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92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微软雅黑"/>
              </a:rPr>
              <a:t>上海市专业评估背景</a:t>
            </a:r>
            <a:endParaRPr b="1" lang="en-US" sz="36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412" name="矩形 12"/>
          <p:cNvSpPr/>
          <p:nvPr/>
        </p:nvSpPr>
        <p:spPr>
          <a:xfrm>
            <a:off x="503280" y="1978200"/>
            <a:ext cx="75740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进专业合理定位，完善人才培养方案，引导专业办出特色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2858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推进专业结构调整与优化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2858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建立本科专业教学状态数据库，实现教学质量常态化监控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2858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善专业基本建设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13" name="矩形 6"/>
          <p:cNvSpPr/>
          <p:nvPr/>
        </p:nvSpPr>
        <p:spPr>
          <a:xfrm>
            <a:off x="376200" y="1182600"/>
            <a:ext cx="6585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目的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8"/>
          <p:cNvSpPr/>
          <p:nvPr/>
        </p:nvSpPr>
        <p:spPr>
          <a:xfrm>
            <a:off x="652320" y="1797120"/>
            <a:ext cx="75596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标导向性原则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285840" indent="-285840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整体综合性原则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285840" indent="-285840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建结合性原则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285840" indent="-285840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序规范性原则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15" name="矩形 3"/>
          <p:cNvSpPr/>
          <p:nvPr/>
        </p:nvSpPr>
        <p:spPr>
          <a:xfrm>
            <a:off x="376200" y="1182600"/>
            <a:ext cx="6585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原则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1160" y="142560"/>
            <a:ext cx="6478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92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微软雅黑"/>
              </a:rPr>
              <a:t>上海市专业评估背景</a:t>
            </a:r>
            <a:endParaRPr b="1" lang="en-US" sz="3600" spc="-1" strike="noStrike">
              <a:solidFill>
                <a:srgbClr val="163794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709560" y="1246320"/>
            <a:ext cx="76136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背景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指标体系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审阅自评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会议评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矩形 1"/>
          <p:cNvSpPr/>
          <p:nvPr/>
        </p:nvSpPr>
        <p:spPr>
          <a:xfrm>
            <a:off x="297000" y="1157400"/>
            <a:ext cx="8386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高校本科专业达标评估指标体系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目标与培养方案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师队伍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本教学条件及利用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教学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学管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学效果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8"/>
          <p:cNvSpPr/>
          <p:nvPr/>
        </p:nvSpPr>
        <p:spPr>
          <a:xfrm>
            <a:off x="523800" y="1690560"/>
            <a:ext cx="8026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1.1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专业定位与人才培养目标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定位和服务面向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才培养目标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建设规划及实施方案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根据社会的实际需求和学校办学定位，有较清晰的专业定位和服务面向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对培养目标的知识、能力、素质有可衡量的明确要求或质量标准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建设思路清晰、有规划、有建设措施，并初见成效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8680" y="1079640"/>
            <a:ext cx="8177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培养目标与培养方案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"/>
          <p:cNvSpPr/>
          <p:nvPr/>
        </p:nvSpPr>
        <p:spPr>
          <a:xfrm>
            <a:off x="515880" y="1809720"/>
            <a:ext cx="80265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1.2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培养方案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 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制定专业培养方案的主要依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方案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培养方案的制定有切实的社会需求调查作为依据，在基本执行教育部或教指委建议的专业规范基础上，体现本校特点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培养方案符合培养目标的要求，体现学生德、智、体、美全面发展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有利于人文素质和科学素养的提高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有利于创新精神和实践能力的培养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336600" y="120636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培养目标与培养方案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574560" y="2021040"/>
            <a:ext cx="8026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1.3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课程体系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 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程体系结构和学分学时分配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程开设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课程体系（包括课堂教学和实践教学体系）结构比较合理，学分学时分配比较科学，人文类专业实践教学占总学分（学时）不低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2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、理工农医类专业实践教学占总学分（学时）不低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25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按照培养方案开设课程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培养方案中的专业选修课开出率不小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9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36600" y="120636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培养目标与培养方案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8"/>
          <p:cNvSpPr/>
          <p:nvPr/>
        </p:nvSpPr>
        <p:spPr>
          <a:xfrm>
            <a:off x="574560" y="2021040"/>
            <a:ext cx="80265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2.1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数量与结构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 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任教师总体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兼职教师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课和专业基础课主讲教师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有专业带头人；有该专业背景的专任教师数量不少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7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人，高级职称教师不少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人且至少有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人具有教授职称；具有硕士及以上学位的专任教师比例不小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5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；年龄结构基本合理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聘用具有实践经验的专业技术人员担任兼职教师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课和专业基础课的主讲教师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9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以上至少具有讲师职称或硕士学位，副高及以上职称的专任教师均担任专业基础课或专业课的教学任务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336600" y="120636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教师队伍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8"/>
          <p:cNvSpPr/>
          <p:nvPr/>
        </p:nvSpPr>
        <p:spPr>
          <a:xfrm>
            <a:off x="504720" y="1779480"/>
            <a:ext cx="802656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2.2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教学工作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 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4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师德修养和敬业精神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4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教学环节的执行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498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大多数教师能履行岗位职责，遵守学术道德，教书育人，为人师表，热心与学生交流，指导学生学业成长。（提供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个专任教师的例证）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498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大多数教师能按照教学要求，在教学准备、课堂教学、实验教学、课外辅导、作业批改和学业评价等教学环节中，认真完成教学任务，能基本保证教学质量，其教学水平达到任职的要求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336600" y="120636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教师队伍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709560" y="1246320"/>
            <a:ext cx="76136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背景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指标体系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审阅自评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会议评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8"/>
          <p:cNvSpPr/>
          <p:nvPr/>
        </p:nvSpPr>
        <p:spPr>
          <a:xfrm>
            <a:off x="487440" y="1752480"/>
            <a:ext cx="80262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2.3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科研情况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师参与科研支撑教学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学科方向基本清晰；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近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年，至少有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6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的教师参与专业相关的科学研究并正式发表科研论文；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有专业教师主持校级以上科研课题或横向科研课题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336600" y="120636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教师队伍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8"/>
          <p:cNvSpPr/>
          <p:nvPr/>
        </p:nvSpPr>
        <p:spPr>
          <a:xfrm>
            <a:off x="495360" y="1760400"/>
            <a:ext cx="80262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2.4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培养培训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师资建设规划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师职业发展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师资建设有规划、有措施、有实效；重视青年教师的培养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有参加海外研修或参加实践锻炼的专业教师，有提高教师教学水平和能力的措施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36600" y="120636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教师队伍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8"/>
          <p:cNvSpPr/>
          <p:nvPr/>
        </p:nvSpPr>
        <p:spPr>
          <a:xfrm>
            <a:off x="504720" y="1844640"/>
            <a:ext cx="80265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3.1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实验室与实习基地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验室建设及实验管理人员配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习基地建设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实验室建设有规划、有投入，场地和设备能基本满足专业培养计划的需求；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.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有专门的实验管理人员，保证实验教学达到教学要求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有不少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个较为稳定的校外实习基地，保持每学期至少有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批学生在基地实习，为每届学生的实习提供主要实习岗位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基本教学条件及利用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8"/>
          <p:cNvSpPr/>
          <p:nvPr/>
        </p:nvSpPr>
        <p:spPr>
          <a:xfrm>
            <a:off x="504720" y="1844640"/>
            <a:ext cx="80265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3.2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图书资料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 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图书资料的配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书馆、阅览室提供的服务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图书和期刊（包括电子资料）数量能满足专业教学要求（统计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5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门专业主要课程参考书的复本数及借阅人次数），电子资料使用方便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图书馆和阅览室的服务能满足师生需求，周末和晚上图书馆、阅览室能保证开放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基本教学条件及利用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8"/>
          <p:cNvSpPr/>
          <p:nvPr/>
        </p:nvSpPr>
        <p:spPr>
          <a:xfrm>
            <a:off x="504720" y="1844640"/>
            <a:ext cx="80265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3.3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教学经费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日常教学经费及专项建设经费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有专业生均日常教学经费标准（注明其中实践环节的经费标准），能基本满足教学需求；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提供专项经费进行专业建设，保证专业建设规划顺利实施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基本教学条件及利用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8"/>
          <p:cNvSpPr/>
          <p:nvPr/>
        </p:nvSpPr>
        <p:spPr>
          <a:xfrm>
            <a:off x="504720" y="1844640"/>
            <a:ext cx="8026560" cy="35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4.1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课程教学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3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学大纲等基本教学文件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3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教材的选用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3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考试考核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399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课程教学大纲、教案等基本教学文件及课程考试试卷等教学文档资料齐全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399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教材选用合理、使用效果良好；有支持特色教材建设的措施和效果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399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考试考核管理严格、规范，评分公平、公正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专业教学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8"/>
          <p:cNvSpPr/>
          <p:nvPr/>
        </p:nvSpPr>
        <p:spPr>
          <a:xfrm>
            <a:off x="479520" y="1701720"/>
            <a:ext cx="8026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4.2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实践教学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验开设与实验内容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验教学大纲等基本教学文件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习开展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99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按照培养方案开设实验课程；开设实验的课程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实验开出率不小于大纲要求的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9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（说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）；开设的实验中包含有一定数量的设计性、综合性实验。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99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实验教学大纲、实验指导书等基本教学文件及学生实验报告等教学文档资料齐全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2999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实习有明确的目标和内容，配备实习指导教师，学生有实习报告，指导教师有实习总结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专业教学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8"/>
          <p:cNvSpPr/>
          <p:nvPr/>
        </p:nvSpPr>
        <p:spPr>
          <a:xfrm>
            <a:off x="504720" y="1844640"/>
            <a:ext cx="802656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4.3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教学改革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开展教学研究和教学改革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改革教学方法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它教学资源及利用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近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年至少有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8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的教师参与教学研究与改革，其中的一半教师正式发表教改论文；有教师主持校级以上教学改革或建设项目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重视改革教学方法与教学手段，合理使用多媒体教学技术并有较好的教学效果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努力丰富专业教学资源，如构建信息化平台、建设网络课程、聘请外教、使用原版教材、开设双语课程等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专业教学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8"/>
          <p:cNvSpPr/>
          <p:nvPr/>
        </p:nvSpPr>
        <p:spPr>
          <a:xfrm>
            <a:off x="487440" y="1828800"/>
            <a:ext cx="802620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4.4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毕业设计（论文）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 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毕业设计（论文）选题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毕业设计（论文）指导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毕业设计（论文）完成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毕业设计（论文）选题结合生产和社会实际，体现综合训练要求，难度、工作量适当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一位教师指导学生人数一般不超过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8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人，有指导记录，有检查落实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197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有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5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以上的毕业设计（论文）在实验、实习、工程实践和社会实践中完成（说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），毕业答辩规范、坚持标准，毕业设计（论文）质量基本合格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专业教学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8"/>
          <p:cNvSpPr/>
          <p:nvPr/>
        </p:nvSpPr>
        <p:spPr>
          <a:xfrm>
            <a:off x="504720" y="1844640"/>
            <a:ext cx="8026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5.1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组织机构及规章制度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学管理机构及人员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学管理规章制度及专业教学文件的知晓程度与执行状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教学管理机构、人员、职责明确，运行正常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教学管理制度及专业教学文件基本健全，实施前预先告知，大多数师生知晓并执行认真，实施的记录文档基本齐全</a:t>
            </a:r>
            <a:r>
              <a:rPr b="0" lang="zh-CN" sz="2000" spc="-1" strike="noStrike">
                <a:solidFill>
                  <a:srgbClr val="163794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教学管理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709560" y="1246320"/>
            <a:ext cx="76136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背景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指标体系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审阅自评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会议评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8"/>
          <p:cNvSpPr/>
          <p:nvPr/>
        </p:nvSpPr>
        <p:spPr>
          <a:xfrm>
            <a:off x="504720" y="1844640"/>
            <a:ext cx="80265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5.2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学生服务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学生的专业学习指导、职业生涯指导、就业指导、创业教育指导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能针对学生在专业学习、职业规划、就业及创业过程中遇到问题和困难，及时提供指导和服务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教学管理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8"/>
          <p:cNvSpPr/>
          <p:nvPr/>
        </p:nvSpPr>
        <p:spPr>
          <a:xfrm>
            <a:off x="504720" y="1743120"/>
            <a:ext cx="802656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5.3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质量监控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 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学质量的检查、评价、反馈、改进机制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质量报告制度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对专业教学质量实施检查、评价、反馈，对反馈结果有分析和改进措施，初步建立了教学质量监控体系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开始定期发布专业质量报告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教学管理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8"/>
          <p:cNvSpPr/>
          <p:nvPr/>
        </p:nvSpPr>
        <p:spPr>
          <a:xfrm>
            <a:off x="504720" y="1844640"/>
            <a:ext cx="8026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.1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学风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遵守校纪校规、出勤与迟到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（晚）自学风气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参加专业学习之外的其它学习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多数学生遵守校纪校规、认真学习，出勤率、迟到率都控制在正常状态（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9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以上）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多数学生坚持早（晚）自学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参加专业学习之外的其它学习项目的学生人数占总数的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2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以上 </a:t>
            </a:r>
            <a:r>
              <a:rPr b="0" lang="zh-CN" sz="2000" spc="-1" strike="noStrike">
                <a:solidFill>
                  <a:srgbClr val="163794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教学效果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8"/>
          <p:cNvSpPr/>
          <p:nvPr/>
        </p:nvSpPr>
        <p:spPr>
          <a:xfrm>
            <a:off x="504720" y="1666800"/>
            <a:ext cx="802656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.2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人才培养目标实现情况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思想道德素养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的基本理论与基本技能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的创新精神与实践能力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098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学生思想道德素质较好，每年都有学生参加献血等公益活动，参加各种志愿者行动的学生人数不少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25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098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学生各类课程考试成绩分布正常（统计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5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门主要课程的补考率和重修率）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ts val="3098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组织学生参加学科竞赛（如英语、计算机、数学建模、电子设计等）；学生参加创新创业活动、课外兴趣小组及教师科研学生人数不少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2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，有一定的创新精神与实践能力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304920" y="1116000"/>
            <a:ext cx="8177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教学效果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8"/>
          <p:cNvSpPr/>
          <p:nvPr/>
        </p:nvSpPr>
        <p:spPr>
          <a:xfrm>
            <a:off x="504720" y="1844640"/>
            <a:ext cx="8026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.3 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就业与社会评价（</a:t>
            </a:r>
            <a:r>
              <a:rPr b="1" lang="en-US" sz="2400" spc="-1" strike="noStrike">
                <a:solidFill>
                  <a:srgbClr val="8a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年毕业生就业率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评价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社会评价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0000"/>
                </a:solidFill>
                <a:latin typeface="黑体"/>
                <a:ea typeface="黑体"/>
              </a:rPr>
              <a:t>达标标准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统计毕业班学生的毕业率、学位授予率（说明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），当年毕业生就业率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&gt;9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学生评教优良率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&gt;8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近三年新生报到率＞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90%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，有对主要用人单位关于毕业生满意度的跟踪调查制度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312840" y="1217520"/>
            <a:ext cx="8177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教学效果（</a:t>
            </a: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982800" y="146160"/>
            <a:ext cx="602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科专业达标评估指标体系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765000" y="1047600"/>
            <a:ext cx="761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背景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指标体系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评估专家组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审阅自评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会议评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矩形 1"/>
          <p:cNvSpPr/>
          <p:nvPr/>
        </p:nvSpPr>
        <p:spPr>
          <a:xfrm>
            <a:off x="403200" y="1619280"/>
            <a:ext cx="84898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家组组成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是临时性工作小组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家组包括专业教育专家、企业界工程技术专家和教育管理专家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家要求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成员应坚持原则，实事求是，认真负责、公正客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认真阅读评估专业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自评报告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，形成个人考查重点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完成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自评报告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家个人意见分析表，并于进校前交秘书汇总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准时全程参加专业评估的会议评议和现场考查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对申请评估专业作出独立、客观、科学的判断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82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765000" y="1047600"/>
            <a:ext cx="761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背景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指标体系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审阅自评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会议评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1"/>
          <p:cNvSpPr/>
          <p:nvPr/>
        </p:nvSpPr>
        <p:spPr>
          <a:xfrm>
            <a:off x="403200" y="1619280"/>
            <a:ext cx="848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质量保证和质量改进为基本指导思想和出发点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重学校或专业的多样性和个性化特点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学生为本，重视对学生学业成就的评价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性与定量的结合，注重发挥同行专家的作用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据专业认证标准，找出自评不清晰的内容，提出需要深入了解的问题，制定拟采用的考查方式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必要的调查、核实准备；准备访谈提纲和提问形式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依据标准审查每项的达成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86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审阅自评报告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765000" y="1047600"/>
            <a:ext cx="761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背景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指标体系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审阅自评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会议评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11080" y="155160"/>
            <a:ext cx="73152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中国教育评价和工程教育改革的新形势</a:t>
            </a:r>
            <a:endParaRPr b="1" lang="en-US" sz="32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66" name="矩形 1"/>
          <p:cNvSpPr/>
          <p:nvPr/>
        </p:nvSpPr>
        <p:spPr>
          <a:xfrm>
            <a:off x="614520" y="21636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2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高等教育做出重要判断和战略部署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2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等教育将进入提高质量、优化结构、深化改革的内涵式发展的历史新阶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2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质量是当前高等教育发展的核心任务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663920" y="135396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十八大”：推动高等教育内涵式发展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1"/>
          <p:cNvSpPr/>
          <p:nvPr/>
        </p:nvSpPr>
        <p:spPr>
          <a:xfrm>
            <a:off x="403200" y="1619280"/>
            <a:ext cx="848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2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专家组向申请达标评估专业负责人介绍达标评估目的和要求。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2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听取评估专业负责人及所在二级学院（系）教学负责人的专业介绍，互动并交换意见。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90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会议评议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"/>
          <p:cNvSpPr/>
          <p:nvPr/>
        </p:nvSpPr>
        <p:spPr>
          <a:xfrm>
            <a:off x="403200" y="1619280"/>
            <a:ext cx="848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培养人才的定位、目标、专业特色及适应性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建设的指导思想及其符合培养人才定位的程度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学计划、课程大纲的制定与实施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院（系）为专业教育教学活动的支持和创造的环境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师资结构及师资建设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学质量保障体系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学习和发展的情况等。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93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会议评议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65000" y="1047600"/>
            <a:ext cx="761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背景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指标体系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审阅自评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会议评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现场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1"/>
          <p:cNvSpPr/>
          <p:nvPr/>
        </p:nvSpPr>
        <p:spPr>
          <a:xfrm>
            <a:off x="403200" y="1619280"/>
            <a:ext cx="848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2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专家组到申请评估专业进行实地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2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现场考查主要目的是核实申请评估专业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评报告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真实性和准确性，并了解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评报告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未能反映的有关情况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2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现场考查的时间一般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97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1"/>
          <p:cNvSpPr/>
          <p:nvPr/>
        </p:nvSpPr>
        <p:spPr>
          <a:xfrm>
            <a:off x="403200" y="1619280"/>
            <a:ext cx="848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评估专家组预备会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进校后专家组召开内部工作会议，明确考查重点和考查步骤，进行分工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地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考查实验条件、图书资料等在内的教学硬件设施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检查近期学生的毕业设计（论文）、试卷、实验报告、实习报告、作业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1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观察实验、实习、课外活动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00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现场考查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1"/>
          <p:cNvSpPr/>
          <p:nvPr/>
        </p:nvSpPr>
        <p:spPr>
          <a:xfrm>
            <a:off x="403200" y="1619280"/>
            <a:ext cx="84898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20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访谈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评估专家组根据需要访谈包括在校学生、教师、学校领导、专业及有关职能部门负责人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20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见反馈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家组向申请达标评估专业反馈意见与建议，并听取申请专业达标评估专业负责人的意见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03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现场考查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1"/>
          <p:cNvSpPr/>
          <p:nvPr/>
        </p:nvSpPr>
        <p:spPr>
          <a:xfrm>
            <a:off x="403200" y="2343240"/>
            <a:ext cx="84898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考查工程实践能力培养环节与条件，是否能有效支撑实践教学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了解工程训练和实践对于学生的培养情况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考查实验室条件及利用情况 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了解科研实验室向本科生开放情况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，查阅有关记录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368280" y="15429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0720" indent="-450720">
              <a:lnSpc>
                <a:spcPct val="20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考查实验实践基地、图书馆、其他教学场所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08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1"/>
          <p:cNvSpPr/>
          <p:nvPr/>
        </p:nvSpPr>
        <p:spPr>
          <a:xfrm>
            <a:off x="403200" y="2343240"/>
            <a:ext cx="84898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了解课程设置与课程体系和各门课程是否达到专业达标评估要求 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评价教学培养计划的有效性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调阅课程设计和毕业设计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关注几年内的教学连续性，如教师几年内毕业设计选题是否重复等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10" name="TextBox 1"/>
          <p:cNvSpPr/>
          <p:nvPr/>
        </p:nvSpPr>
        <p:spPr>
          <a:xfrm>
            <a:off x="368280" y="15429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0720" indent="-450720">
              <a:lnSpc>
                <a:spcPct val="20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查阅学生学习成果、管理资料和各类记录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12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矩形 1"/>
          <p:cNvSpPr/>
          <p:nvPr/>
        </p:nvSpPr>
        <p:spPr>
          <a:xfrm>
            <a:off x="403200" y="2343240"/>
            <a:ext cx="8489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了解教师资结构、学状况、教师素质、教学和科研状况、课程设置、课程组织、教材使用等情况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了解教师对培养目标的认知度、认可度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了解所授课程在专业教育过程中的作用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在该课程的学习中，学生应掌握哪些能力？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核实任课教师、班导师对学生指导的工作职责、工作内容及考核情况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14" name="TextBox 1"/>
          <p:cNvSpPr/>
          <p:nvPr/>
        </p:nvSpPr>
        <p:spPr>
          <a:xfrm>
            <a:off x="368280" y="15429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0720" indent="-450720">
              <a:lnSpc>
                <a:spcPct val="20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访谈教师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16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1"/>
          <p:cNvSpPr/>
          <p:nvPr/>
        </p:nvSpPr>
        <p:spPr>
          <a:xfrm>
            <a:off x="403200" y="2343240"/>
            <a:ext cx="8489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学生是否了解校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/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的培养目标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学生是否有意识地按照相应的目标努力学习，并提高自己的能力和素质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学生是否有足够的机会与专业课教师沟通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学生在选课、就业、顺利完成学业等方面是否能得到足够的指导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实验条件、图书资料是否能够满足要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18" name="TextBox 1"/>
          <p:cNvSpPr/>
          <p:nvPr/>
        </p:nvSpPr>
        <p:spPr>
          <a:xfrm>
            <a:off x="368280" y="15429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0720" indent="-450720">
              <a:lnSpc>
                <a:spcPct val="20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访谈学生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20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11383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140000"/>
              </a:lnSpc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</a:rPr>
              <a:t>工业化发展需要培养大量优秀工程师</a:t>
            </a:r>
            <a:endParaRPr b="1" lang="en-US" sz="2800" spc="-1" strike="noStrike">
              <a:solidFill>
                <a:srgbClr val="163794"/>
              </a:solidFill>
              <a:latin typeface="黑体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684360" y="3878280"/>
            <a:ext cx="31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快转变经济发展方式，推动产业结构优化升级的需要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698400" y="2097000"/>
            <a:ext cx="34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走中国特色新型工业化道路的需要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4876920" y="213984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建设创新型国家建设人力资源强国的需要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5037120" y="41925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工程师是支撑“需要”的中坚力量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685800" y="3649680"/>
            <a:ext cx="7696080" cy="0"/>
          </a:xfrm>
          <a:prstGeom prst="line">
            <a:avLst/>
          </a:prstGeom>
          <a:ln w="1260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74" name="Line 30"/>
          <p:cNvSpPr/>
          <p:nvPr/>
        </p:nvSpPr>
        <p:spPr>
          <a:xfrm>
            <a:off x="4419720" y="1973160"/>
            <a:ext cx="0" cy="3581640"/>
          </a:xfrm>
          <a:prstGeom prst="line">
            <a:avLst/>
          </a:prstGeom>
          <a:ln w="1260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grpSp>
        <p:nvGrpSpPr>
          <p:cNvPr id="375" name="Group 33"/>
          <p:cNvGrpSpPr/>
          <p:nvPr/>
        </p:nvGrpSpPr>
        <p:grpSpPr>
          <a:xfrm>
            <a:off x="3637080" y="3181320"/>
            <a:ext cx="1541160" cy="1424520"/>
            <a:chOff x="3637080" y="3181320"/>
            <a:chExt cx="1541160" cy="1424520"/>
          </a:xfrm>
        </p:grpSpPr>
        <p:pic>
          <p:nvPicPr>
            <p:cNvPr id="376" name="Picture 34" descr="circuler_1"/>
            <p:cNvPicPr/>
            <p:nvPr/>
          </p:nvPicPr>
          <p:blipFill>
            <a:blip r:embed="rId1"/>
            <a:stretch/>
          </p:blipFill>
          <p:spPr>
            <a:xfrm>
              <a:off x="3663360" y="3209040"/>
              <a:ext cx="1486800" cy="130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7" name="Oval 35"/>
            <p:cNvGrpSpPr/>
            <p:nvPr/>
          </p:nvGrpSpPr>
          <p:grpSpPr>
            <a:xfrm>
              <a:off x="3637080" y="3181320"/>
              <a:ext cx="1541160" cy="1373040"/>
              <a:chOff x="3637080" y="3181320"/>
              <a:chExt cx="1541160" cy="1373040"/>
            </a:xfrm>
          </p:grpSpPr>
          <p:pic>
            <p:nvPicPr>
              <p:cNvPr id="378" name="Oval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7080" y="3181320"/>
                <a:ext cx="1541160" cy="137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3880440" y="3401640"/>
                <a:ext cx="104472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楷体_GB2312"/>
                </a:endParaRPr>
              </a:p>
            </p:txBody>
          </p:sp>
        </p:grpSp>
        <p:sp>
          <p:nvSpPr>
            <p:cNvPr id="380" name="Freeform 36"/>
            <p:cNvSpPr/>
            <p:nvPr/>
          </p:nvSpPr>
          <p:spPr>
            <a:xfrm>
              <a:off x="3817080" y="3235680"/>
              <a:ext cx="1159920" cy="454320"/>
            </a:xfrm>
            <a:custGeom>
              <a:avLst/>
              <a:gdLst>
                <a:gd name="textAreaLeft" fmla="*/ 0 w 1159920"/>
                <a:gd name="textAreaRight" fmla="*/ 1160280 w 115992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楷体_GB2312"/>
              </a:endParaRPr>
            </a:p>
          </p:txBody>
        </p:sp>
        <p:grpSp>
          <p:nvGrpSpPr>
            <p:cNvPr id="381" name="Group 37"/>
            <p:cNvGrpSpPr/>
            <p:nvPr/>
          </p:nvGrpSpPr>
          <p:grpSpPr>
            <a:xfrm>
              <a:off x="3774600" y="4091760"/>
              <a:ext cx="1292760" cy="514080"/>
              <a:chOff x="3774600" y="4091760"/>
              <a:chExt cx="1292760" cy="514080"/>
            </a:xfrm>
          </p:grpSpPr>
          <p:grpSp>
            <p:nvGrpSpPr>
              <p:cNvPr id="382" name="Group 38"/>
              <p:cNvGrpSpPr/>
              <p:nvPr/>
            </p:nvGrpSpPr>
            <p:grpSpPr>
              <a:xfrm>
                <a:off x="3996360" y="4091760"/>
                <a:ext cx="1071000" cy="471960"/>
                <a:chOff x="3996360" y="4091760"/>
                <a:chExt cx="1071000" cy="471960"/>
              </a:xfrm>
            </p:grpSpPr>
            <p:sp>
              <p:nvSpPr>
                <p:cNvPr id="383" name="AutoShape 39"/>
                <p:cNvSpPr/>
                <p:nvPr/>
              </p:nvSpPr>
              <p:spPr>
                <a:xfrm flipH="1" flipV="1" rot="3964800">
                  <a:off x="4590000" y="3935880"/>
                  <a:ext cx="16956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楷体_GB2312"/>
                  </a:endParaRPr>
                </a:p>
              </p:txBody>
            </p:sp>
            <p:sp>
              <p:nvSpPr>
                <p:cNvPr id="384" name="AutoShape 40"/>
                <p:cNvSpPr/>
                <p:nvPr/>
              </p:nvSpPr>
              <p:spPr>
                <a:xfrm flipH="1" flipV="1" rot="4780200">
                  <a:off x="4469040" y="3984120"/>
                  <a:ext cx="169560" cy="78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楷体_GB2312"/>
                  </a:endParaRPr>
                </a:p>
              </p:txBody>
            </p:sp>
            <p:sp>
              <p:nvSpPr>
                <p:cNvPr id="385" name="AutoShape 41"/>
                <p:cNvSpPr/>
                <p:nvPr/>
              </p:nvSpPr>
              <p:spPr>
                <a:xfrm flipH="1" flipV="1" rot="5076000">
                  <a:off x="4395240" y="3996360"/>
                  <a:ext cx="16956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楷体_GB2312"/>
                  </a:endParaRPr>
                </a:p>
              </p:txBody>
            </p:sp>
            <p:sp>
              <p:nvSpPr>
                <p:cNvPr id="386" name="AutoShape 42"/>
                <p:cNvSpPr/>
                <p:nvPr/>
              </p:nvSpPr>
              <p:spPr>
                <a:xfrm flipH="1" flipV="1" rot="5608200">
                  <a:off x="4307040" y="4007520"/>
                  <a:ext cx="16956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87" name="Group 43"/>
              <p:cNvGrpSpPr/>
              <p:nvPr/>
            </p:nvGrpSpPr>
            <p:grpSpPr>
              <a:xfrm>
                <a:off x="3774600" y="4109400"/>
                <a:ext cx="1070280" cy="496440"/>
                <a:chOff x="3774600" y="4109400"/>
                <a:chExt cx="1070280" cy="496440"/>
              </a:xfrm>
            </p:grpSpPr>
            <p:sp>
              <p:nvSpPr>
                <p:cNvPr id="388" name="AutoShape 44"/>
                <p:cNvSpPr/>
                <p:nvPr/>
              </p:nvSpPr>
              <p:spPr>
                <a:xfrm flipH="1" flipV="1" rot="5317800">
                  <a:off x="4366080" y="4010040"/>
                  <a:ext cx="17064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楷体_GB2312"/>
                  </a:endParaRPr>
                </a:p>
              </p:txBody>
            </p:sp>
            <p:sp>
              <p:nvSpPr>
                <p:cNvPr id="389" name="AutoShape 45"/>
                <p:cNvSpPr/>
                <p:nvPr/>
              </p:nvSpPr>
              <p:spPr>
                <a:xfrm flipH="1" flipV="1" rot="6133800">
                  <a:off x="4236120" y="4007880"/>
                  <a:ext cx="170640" cy="78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楷体_GB2312"/>
                  </a:endParaRPr>
                </a:p>
              </p:txBody>
            </p:sp>
            <p:sp>
              <p:nvSpPr>
                <p:cNvPr id="390" name="AutoShape 46"/>
                <p:cNvSpPr/>
                <p:nvPr/>
              </p:nvSpPr>
              <p:spPr>
                <a:xfrm flipH="1" flipV="1" rot="6429000">
                  <a:off x="4163760" y="3990600"/>
                  <a:ext cx="170640" cy="78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楷体_GB2312"/>
                  </a:endParaRPr>
                </a:p>
              </p:txBody>
            </p:sp>
            <p:sp>
              <p:nvSpPr>
                <p:cNvPr id="391" name="AutoShape 47"/>
                <p:cNvSpPr/>
                <p:nvPr/>
              </p:nvSpPr>
              <p:spPr>
                <a:xfrm flipH="1" flipV="1" rot="6961200">
                  <a:off x="4077720" y="3965760"/>
                  <a:ext cx="170640" cy="78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392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矩形 1"/>
          <p:cNvSpPr/>
          <p:nvPr/>
        </p:nvSpPr>
        <p:spPr>
          <a:xfrm>
            <a:off x="422280" y="2228760"/>
            <a:ext cx="8489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了解学校和院系的机构设置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培养定位、教学计划、课程大纲的制定与实施，课程安排、专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业特色及适应性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为专业教育教学活动所创造的环境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师资结构及师资建设情况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教学组织的保障、教学质量保障体系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0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质量评价机制</a:t>
            </a:r>
            <a:r>
              <a:rPr b="1" lang="en-US" sz="2000" spc="-1" strike="noStrike">
                <a:solidFill>
                  <a:srgbClr val="163794"/>
                </a:solidFill>
                <a:latin typeface="黑体"/>
                <a:ea typeface="黑体"/>
              </a:rPr>
              <a:t>, </a:t>
            </a: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反馈和持续改进措施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22" name="TextBox 1"/>
          <p:cNvSpPr/>
          <p:nvPr/>
        </p:nvSpPr>
        <p:spPr>
          <a:xfrm>
            <a:off x="368280" y="15429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0720" indent="-450720">
              <a:lnSpc>
                <a:spcPct val="20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访谈校、院、系领导和教学负责人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24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765000" y="1047600"/>
            <a:ext cx="761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背景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指标体系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审阅自评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会议评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评估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矩形 1"/>
          <p:cNvSpPr/>
          <p:nvPr/>
        </p:nvSpPr>
        <p:spPr>
          <a:xfrm>
            <a:off x="422280" y="2228760"/>
            <a:ext cx="8489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总体情况分析。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自评报告的审阅意见及问题核实情况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一级指标评价分析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特色分析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  <a:p>
            <a:pPr lvl="1" marL="450720" indent="-450720">
              <a:lnSpc>
                <a:spcPct val="250000"/>
              </a:lnSpc>
              <a:buClr>
                <a:srgbClr val="163794"/>
              </a:buClr>
              <a:buSzPct val="80000"/>
              <a:buFont typeface="Wingdings" charset="2"/>
              <a:buChar char="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63794"/>
                </a:solidFill>
                <a:latin typeface="黑体"/>
                <a:ea typeface="黑体"/>
              </a:rPr>
              <a:t>专业评估过程中发现的问题和不足</a:t>
            </a:r>
            <a:endParaRPr b="0" lang="en-US" sz="20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368280" y="15429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0720" indent="-450720">
              <a:lnSpc>
                <a:spcPct val="200000"/>
              </a:lnSpc>
              <a:buClr>
                <a:srgbClr val="163794"/>
              </a:buClr>
              <a:buFont typeface="Wingdings" charset="2"/>
              <a:buChar char="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专业评估报告包括下列内容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程序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529" name="TextBox 1"/>
          <p:cNvSpPr/>
          <p:nvPr/>
        </p:nvSpPr>
        <p:spPr>
          <a:xfrm>
            <a:off x="358920" y="1000080"/>
            <a:ext cx="6107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40000"/>
              </a:lnSpc>
              <a:buClr>
                <a:srgbClr val="16379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专业评估报告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92200" y="1960560"/>
            <a:ext cx="7913520" cy="1757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163794"/>
                </a:solidFill>
                <a:latin typeface="黑体"/>
              </a:rPr>
              <a:t>谢 谢</a:t>
            </a:r>
            <a:endParaRPr b="1" lang="en-US" sz="5000" spc="-1" strike="noStrike">
              <a:solidFill>
                <a:srgbClr val="163794"/>
              </a:solidFill>
              <a:latin typeface="黑体"/>
            </a:endParaRPr>
          </a:p>
        </p:txBody>
      </p:sp>
      <p:grpSp>
        <p:nvGrpSpPr>
          <p:cNvPr id="531" name="圆角矩形 6"/>
          <p:cNvGrpSpPr/>
          <p:nvPr/>
        </p:nvGrpSpPr>
        <p:grpSpPr>
          <a:xfrm>
            <a:off x="701640" y="3309840"/>
            <a:ext cx="7905960" cy="122400"/>
            <a:chOff x="701640" y="3309840"/>
            <a:chExt cx="7905960" cy="122400"/>
          </a:xfrm>
        </p:grpSpPr>
        <p:pic>
          <p:nvPicPr>
            <p:cNvPr id="532" name="圆角矩形 6" descr=""/>
            <p:cNvPicPr/>
            <p:nvPr/>
          </p:nvPicPr>
          <p:blipFill>
            <a:blip r:embed="rId1"/>
            <a:stretch/>
          </p:blipFill>
          <p:spPr>
            <a:xfrm>
              <a:off x="701640" y="3309840"/>
              <a:ext cx="7905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720720" y="3335400"/>
              <a:ext cx="786276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1"/>
          <p:cNvSpPr/>
          <p:nvPr/>
        </p:nvSpPr>
        <p:spPr>
          <a:xfrm>
            <a:off x="382680" y="1235160"/>
            <a:ext cx="66596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40000"/>
              </a:lnSpc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我国工程教育规模巨大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1143000" y="5229360"/>
            <a:ext cx="6856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工程教育质量具有全局性战略意义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pic>
        <p:nvPicPr>
          <p:cNvPr id="395" name="Object 10" descr=""/>
          <p:cNvPicPr/>
          <p:nvPr/>
        </p:nvPicPr>
        <p:blipFill>
          <a:blip r:embed="rId1"/>
          <a:stretch/>
        </p:blipFill>
        <p:spPr>
          <a:xfrm>
            <a:off x="353880" y="1812960"/>
            <a:ext cx="3711600" cy="353052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11" descr=""/>
          <p:cNvPicPr/>
          <p:nvPr/>
        </p:nvPicPr>
        <p:blipFill>
          <a:blip r:embed="rId2"/>
          <a:stretch/>
        </p:blipFill>
        <p:spPr>
          <a:xfrm>
            <a:off x="3025800" y="1717560"/>
            <a:ext cx="3562200" cy="3583080"/>
          </a:xfrm>
          <a:prstGeom prst="rect">
            <a:avLst/>
          </a:prstGeom>
          <a:ln w="0">
            <a:noFill/>
          </a:ln>
        </p:spPr>
      </p:pic>
      <p:pic>
        <p:nvPicPr>
          <p:cNvPr id="397" name="Object 12" descr=""/>
          <p:cNvPicPr/>
          <p:nvPr/>
        </p:nvPicPr>
        <p:blipFill>
          <a:blip r:embed="rId3"/>
          <a:stretch/>
        </p:blipFill>
        <p:spPr>
          <a:xfrm>
            <a:off x="5726160" y="1662120"/>
            <a:ext cx="3564000" cy="35780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558720" y="1181160"/>
            <a:ext cx="648036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163794"/>
              </a:buClr>
              <a:buFont typeface="Wingdings" charset="2"/>
              <a:buChar char="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800" spc="-1" strike="noStrike">
                <a:solidFill>
                  <a:srgbClr val="163794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我国工程教育面临五大挑战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42960" y="1865160"/>
            <a:ext cx="813924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需要进一步加强与工业界的紧密结合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的工程实践能力和创新能力需要进一步提升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工程教育师资队伍建设特别是青年教师的工程能力需要进一步加强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大众化高等教育，需要增强学生的就业能力与创业能力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经济全球化趋势，需要培养具有国际竞争力的工程人才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105B-7844-4A65-B3E4-4BE582F9BAAE}" type="slidenum">
              <a:rPr b="0" lang="en-US" sz="18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830160" y="1160640"/>
            <a:ext cx="64486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优化专业和人才类型结构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879480" y="164160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优化专业结构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产业对人才的需求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建立专业动态调整机制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1019160" y="327492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调整人才培养类型结构，加大应用型、复合型人才培养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型工程师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设计型工程师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50720" indent="-45072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研究型工程师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811080" y="15552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32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709560" y="1246320"/>
            <a:ext cx="76136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中国教育评价和工程教育改革的新形势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海市专业评估背景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指标体系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16379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794"/>
                </a:solidFill>
                <a:latin typeface="黑体"/>
                <a:ea typeface="黑体"/>
              </a:rPr>
              <a:t>上海市专业评估程序</a:t>
            </a:r>
            <a:endParaRPr b="0" lang="en-US" sz="28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专家组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审阅自评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会议评议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现场考查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  <a:p>
            <a:pPr marL="449280" indent="-449280">
              <a:lnSpc>
                <a:spcPct val="110000"/>
              </a:lnSpc>
              <a:spcBef>
                <a:spcPts val="601"/>
              </a:spcBef>
              <a:buClr>
                <a:srgbClr val="16379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63794"/>
                </a:solidFill>
                <a:latin typeface="黑体"/>
                <a:ea typeface="黑体"/>
              </a:rPr>
              <a:t>评估报告</a:t>
            </a:r>
            <a:endParaRPr b="0" lang="en-US" sz="2400" spc="-1" strike="noStrike">
              <a:solidFill>
                <a:srgbClr val="163794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陈关龙</dc:creator>
  <dc:description/>
  <dc:language>en-US</dc:language>
  <cp:lastModifiedBy>qiping.guanlong</cp:lastModifiedBy>
  <cp:lastPrinted>1899-12-30T00:00:00Z</cp:lastPrinted>
  <dcterms:modified xsi:type="dcterms:W3CDTF">2013-11-28T12:04:07Z</dcterms:modified>
  <cp:revision>2000</cp:revision>
  <dc:subject/>
  <dc:title>上海市机械类专业评估标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